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68CD-6E40-4E54-9CE1-20077C86F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/19.78 = 5.06 shares, not 5.08 (second to last row on the 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hares purchased then becomes 51.66, not 51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s a 365 day year for the daily amou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years at 5% 12,7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2246"/>
          <a:stretch/>
        </p:blipFill>
        <p:spPr>
          <a:xfrm>
            <a:off x="0" y="5313240"/>
            <a:ext cx="2362320" cy="15447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-108360" y="0"/>
            <a:ext cx="56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5e0"/>
                </a:solidFill>
                <a:latin typeface="AvantGarde Md BT"/>
              </a:rPr>
              <a:t>NEFE High School Financial Planning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1371600" cy="581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5334120"/>
            <a:ext cx="2362320" cy="1523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0" y="304920"/>
            <a:ext cx="42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Three – Investing: Making Money Work for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4880" y="4952880"/>
            <a:ext cx="564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 3 - Inves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king Money Work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ule of 72: $10,000 Invest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0" y="64612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219320" y="1371600"/>
            <a:ext cx="6724440" cy="5029200"/>
            <a:chOff x="1219320" y="1371600"/>
            <a:chExt cx="6724440" cy="5029200"/>
          </a:xfrm>
        </p:grpSpPr>
        <p:sp>
          <p:nvSpPr>
            <p:cNvPr id="335" name=""/>
            <p:cNvSpPr/>
            <p:nvPr/>
          </p:nvSpPr>
          <p:spPr>
            <a:xfrm>
              <a:off x="1219320" y="1371600"/>
              <a:ext cx="6724440" cy="502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14560" y="1371600"/>
              <a:ext cx="0" cy="50292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91080" y="2209680"/>
              <a:ext cx="0" cy="4191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67600" y="2209680"/>
              <a:ext cx="0" cy="4191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38400" y="2209680"/>
              <a:ext cx="67053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38400" y="3048120"/>
              <a:ext cx="67053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38400" y="4724280"/>
              <a:ext cx="67053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38400" y="3886200"/>
              <a:ext cx="67053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38400" y="5562720"/>
              <a:ext cx="67053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830600" y="320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32320" y="4038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32320" y="4876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32320" y="5715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02000" y="236232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4840" y="23623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31000" y="23623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685560" y="23623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1523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NTERES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973960" y="57150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$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50480" y="57150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$4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50680" y="571500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$16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327000" y="32004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$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7000" y="40384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$4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02960" y="487692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$8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50480" y="40384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$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9966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429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inancial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nning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yram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52280" y="457200"/>
            <a:ext cx="8077320" cy="5715000"/>
            <a:chOff x="152280" y="457200"/>
            <a:chExt cx="8077320" cy="5715000"/>
          </a:xfrm>
        </p:grpSpPr>
        <p:sp>
          <p:nvSpPr>
            <p:cNvPr id="363" name=""/>
            <p:cNvSpPr/>
            <p:nvPr/>
          </p:nvSpPr>
          <p:spPr>
            <a:xfrm>
              <a:off x="152280" y="457200"/>
              <a:ext cx="8077320" cy="57150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120" y="533376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71600" y="449568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365760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52760" y="281916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62240" y="19810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91120" y="45720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29000" y="281916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76920" y="281916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24080" y="3657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29200" y="3657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19520" y="44956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34120" y="44956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86000" y="533376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91120" y="533376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3600" y="533376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91480" y="1447560"/>
              <a:ext cx="68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n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52680" y="144756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o- d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7400" y="228600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llecti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91120" y="2057400"/>
              <a:ext cx="1676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ulativ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ock / Bonds 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tual Fu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46240" y="2971800"/>
              <a:ext cx="688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t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8640" y="2895480"/>
              <a:ext cx="962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ue-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8840" y="2895480"/>
              <a:ext cx="766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tu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57440" y="3733560"/>
              <a:ext cx="1101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igh-G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r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39600" y="3733560"/>
              <a:ext cx="1101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igh-G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fer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81080" y="3733560"/>
              <a:ext cx="924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lanc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tu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59840" y="4572000"/>
              <a:ext cx="1529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igh-G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rporate Bo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 Mutual Fu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46280" y="4495680"/>
              <a:ext cx="1489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igh-G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nicipal Bo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 Mutual Fu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16080" y="4572000"/>
              <a:ext cx="1469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ney Mar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 Mutual Fu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70200" y="5486400"/>
              <a:ext cx="107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 Depos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65800" y="5486400"/>
              <a:ext cx="121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.S. Sav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9920" y="548640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ured Savings /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ing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47440" y="5486400"/>
              <a:ext cx="88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su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su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870600" y="762120"/>
            <a:ext cx="227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s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st E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96080" y="4114800"/>
            <a:ext cx="144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er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er E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20" y="64612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-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-108360" y="0"/>
            <a:ext cx="56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vantGarde Md BT"/>
              </a:rPr>
              <a:t>NEFE High School Financial Planning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-14400" y="304920"/>
            <a:ext cx="42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t Three – Investing: Making Money Work for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20120" y="1676520"/>
            <a:ext cx="1295280" cy="2361960"/>
          </a:xfrm>
          <a:prstGeom prst="upDownArrow">
            <a:avLst>
              <a:gd name="adj1" fmla="val 50000"/>
              <a:gd name="adj2" fmla="val 36301"/>
            </a:avLst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0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19920" y="4952880"/>
            <a:ext cx="12189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00600" y="5638680"/>
            <a:ext cx="12193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2209680"/>
            <a:ext cx="7696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19920" y="3581280"/>
            <a:ext cx="121896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2895480"/>
            <a:ext cx="12193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4267080"/>
            <a:ext cx="12193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19920" y="4952880"/>
            <a:ext cx="12189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5638680"/>
            <a:ext cx="12193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238880" y="5638680"/>
            <a:ext cx="12193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4952880"/>
            <a:ext cx="12193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00600" y="4267080"/>
            <a:ext cx="12193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238880" y="2209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362320" y="2209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00600" y="2209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19920" y="2209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2209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2895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49528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56386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1040" y="236232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20760" y="3048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56960" y="236232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68200" y="579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20760" y="37339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20760" y="43434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20760" y="51055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50560" y="57913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49880" y="23623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75320" y="23623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924800" y="236232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43760" y="236232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29920" y="579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249240" y="51055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468200" y="4419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362320" y="5638680"/>
            <a:ext cx="121896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10600" y="51055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029920" y="4419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49240" y="37339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68200" y="3048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1640" y="579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60760" y="533520"/>
            <a:ext cx="562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e Impact of Higher Retur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on Savings and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00280" y="1600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Rule of 72: The approximate frequency with which $100 doubles at specific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20" y="64612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6553080"/>
            <a:ext cx="38124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57200" y="838080"/>
            <a:ext cx="8305920" cy="563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Dollar Cost Averag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90720"/>
            <a:ext cx="38862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905120" y="1447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00400" y="1447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2209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2590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3352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3733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4114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4495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4876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5257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5638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1447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03440" y="14731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120040" y="14731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1240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0880" y="220968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,0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34080" y="22096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29360" y="22096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24280" y="990720"/>
            <a:ext cx="38862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19920" y="1447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315200" y="1447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2209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24280" y="2590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24280" y="2971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3352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24280" y="3733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724280" y="4114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4495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724280" y="4876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24280" y="5257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24280" y="5638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24280" y="1447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818240" y="14731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34840" y="14731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2388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70440" y="22096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77400" y="22096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61880" y="22096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876920" y="25909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2971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876920" y="33526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76920" y="37339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876920" y="4114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4956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48769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87692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7400" y="25909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9.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77400" y="2971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9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377400" y="33526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9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77400" y="37339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9.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77400" y="4114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8.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77400" y="44956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8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77400" y="48769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8.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77400" y="5257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9.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661880" y="2590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661880" y="29718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661880" y="33526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661160" y="3733920"/>
            <a:ext cx="6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661880" y="41148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661880" y="44956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61880" y="4876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61880" y="52578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4560" y="6019920"/>
            <a:ext cx="1330200" cy="398880"/>
            <a:chOff x="574560" y="6019920"/>
            <a:chExt cx="1330200" cy="398880"/>
          </a:xfrm>
        </p:grpSpPr>
        <p:sp>
          <p:nvSpPr>
            <p:cNvPr id="519" name=""/>
            <p:cNvSpPr/>
            <p:nvPr/>
          </p:nvSpPr>
          <p:spPr>
            <a:xfrm>
              <a:off x="609480" y="6019920"/>
              <a:ext cx="1295280" cy="380880"/>
            </a:xfrm>
            <a:prstGeom prst="rect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4560" y="601992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$1,000.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905120" y="6019920"/>
            <a:ext cx="1295280" cy="398880"/>
            <a:chOff x="1905120" y="6019920"/>
            <a:chExt cx="1295280" cy="398880"/>
          </a:xfrm>
        </p:grpSpPr>
        <p:sp>
          <p:nvSpPr>
            <p:cNvPr id="522" name=""/>
            <p:cNvSpPr/>
            <p:nvPr/>
          </p:nvSpPr>
          <p:spPr>
            <a:xfrm>
              <a:off x="1905120" y="6019920"/>
              <a:ext cx="1295280" cy="380880"/>
            </a:xfrm>
            <a:prstGeom prst="rect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33720" y="60199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$20.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200400" y="6019920"/>
            <a:ext cx="1295280" cy="398880"/>
            <a:chOff x="3200400" y="6019920"/>
            <a:chExt cx="1295280" cy="398880"/>
          </a:xfrm>
        </p:grpSpPr>
        <p:sp>
          <p:nvSpPr>
            <p:cNvPr id="525" name=""/>
            <p:cNvSpPr/>
            <p:nvPr/>
          </p:nvSpPr>
          <p:spPr>
            <a:xfrm>
              <a:off x="3200400" y="6019920"/>
              <a:ext cx="1295280" cy="380880"/>
            </a:xfrm>
            <a:prstGeom prst="rect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53040" y="601992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0.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019920" y="6019920"/>
            <a:ext cx="1366200" cy="398880"/>
            <a:chOff x="6019920" y="6019920"/>
            <a:chExt cx="1366200" cy="398880"/>
          </a:xfrm>
        </p:grpSpPr>
        <p:sp>
          <p:nvSpPr>
            <p:cNvPr id="528" name=""/>
            <p:cNvSpPr/>
            <p:nvPr/>
          </p:nvSpPr>
          <p:spPr>
            <a:xfrm>
              <a:off x="6019920" y="6019920"/>
              <a:ext cx="1295280" cy="380880"/>
            </a:xfrm>
            <a:prstGeom prst="rect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27720" y="601992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$19.39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7315200" y="6019920"/>
            <a:ext cx="1295280" cy="398880"/>
            <a:chOff x="7315200" y="6019920"/>
            <a:chExt cx="1295280" cy="398880"/>
          </a:xfrm>
        </p:grpSpPr>
        <p:sp>
          <p:nvSpPr>
            <p:cNvPr id="531" name=""/>
            <p:cNvSpPr/>
            <p:nvPr/>
          </p:nvSpPr>
          <p:spPr>
            <a:xfrm>
              <a:off x="7315200" y="6019920"/>
              <a:ext cx="1295280" cy="380880"/>
            </a:xfrm>
            <a:prstGeom prst="rect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14000" y="601992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1.6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4876920" y="56386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78840" y="56386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0.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61160" y="5638680"/>
            <a:ext cx="6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217160" y="99072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Time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32320" y="990720"/>
            <a:ext cx="28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llar-Cost Aver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689360" y="6019920"/>
            <a:ext cx="1330200" cy="398880"/>
            <a:chOff x="4689360" y="6019920"/>
            <a:chExt cx="1330200" cy="398880"/>
          </a:xfrm>
        </p:grpSpPr>
        <p:sp>
          <p:nvSpPr>
            <p:cNvPr id="539" name=""/>
            <p:cNvSpPr/>
            <p:nvPr/>
          </p:nvSpPr>
          <p:spPr>
            <a:xfrm>
              <a:off x="4724280" y="6019920"/>
              <a:ext cx="1295280" cy="380880"/>
            </a:xfrm>
            <a:prstGeom prst="rect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89360" y="601992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$1,000.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720" y="64612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446160" y="64612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Average Shar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114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3392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52680" y="6553080"/>
            <a:ext cx="38124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971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500"/>
                            </p:stCondLst>
                            <p:childTnLst>
                              <p:par>
                                <p:cTn id="12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500"/>
                            </p:stCondLst>
                            <p:childTnLst>
                              <p:par>
                                <p:cTn id="13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20" y="64612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avings and Investmen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43280"/>
            <a:ext cx="4876920" cy="2971800"/>
          </a:xfrm>
          <a:prstGeom prst="ellipse">
            <a:avLst/>
          </a:prstGeom>
          <a:solidFill>
            <a:srgbClr val="00cc00">
              <a:alpha val="7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93560" y="2840040"/>
            <a:ext cx="14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1943280"/>
            <a:ext cx="4800600" cy="2971800"/>
          </a:xfrm>
          <a:prstGeom prst="ellipse">
            <a:avLst/>
          </a:prstGeom>
          <a:solidFill>
            <a:srgbClr val="ff9900">
              <a:alpha val="71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5400" y="2835360"/>
            <a:ext cx="178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00000" y="2895480"/>
            <a:ext cx="194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5334120"/>
            <a:ext cx="72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are some features common to both investments and sav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1219320"/>
            <a:ext cx="6629400" cy="5029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Investing Weekly at 5% Interes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3040" y="64612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1828800"/>
            <a:ext cx="5333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057400" y="1828800"/>
            <a:ext cx="5013360" cy="825480"/>
            <a:chOff x="2057400" y="1828800"/>
            <a:chExt cx="5013360" cy="825480"/>
          </a:xfrm>
        </p:grpSpPr>
        <p:sp>
          <p:nvSpPr>
            <p:cNvPr id="66" name=""/>
            <p:cNvSpPr/>
            <p:nvPr/>
          </p:nvSpPr>
          <p:spPr>
            <a:xfrm>
              <a:off x="2057400" y="182880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mount Sa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er We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828800"/>
              <a:ext cx="1965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alue Af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 Yea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668680" y="2743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6760" y="33526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14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6760" y="38862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21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6760" y="44197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28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6760" y="49528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35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4880" y="27432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 4,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64880" y="33526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 9,4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04680" y="38862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 14,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65640" y="441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 18,8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4952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 23,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0" b="2246"/>
          <a:stretch/>
        </p:blipFill>
        <p:spPr>
          <a:xfrm>
            <a:off x="0" y="5313240"/>
            <a:ext cx="2362320" cy="1544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971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remove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remove" presetClass="emph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remove" presetClass="emph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remove" presetClass="emph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remove" presetClass="emph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Investing Annually to Achieve a Goa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" y="64612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371600"/>
            <a:ext cx="0" cy="4114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1371600"/>
            <a:ext cx="0" cy="4114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1371600"/>
            <a:ext cx="0" cy="4114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1371600"/>
            <a:ext cx="0" cy="4114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56760" y="1371600"/>
            <a:ext cx="1440" cy="4114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1371600"/>
            <a:ext cx="0" cy="4114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5238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alue of 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6560" y="15238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52040" y="15238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720" y="15238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9600" y="15238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3040" y="220968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3040" y="289548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3040" y="358128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3040" y="426708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2680" y="4952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8360" y="21621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0.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8360" y="28479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1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8360" y="35337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1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8360" y="42195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1.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8360" y="49053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9960" y="21621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1.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9960" y="28479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2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9960" y="35337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2.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9960" y="42195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3.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9053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4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3840" y="21621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3.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3840" y="28479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4.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3840" y="35337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5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3840" y="42195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7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3840" y="49053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9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41760" y="21621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5.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41760" y="28479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6.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41760" y="35337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8.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41760" y="42195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31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41760" y="49053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35.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6553080"/>
            <a:ext cx="38124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6553080"/>
            <a:ext cx="38124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24200" y="2979720"/>
            <a:ext cx="349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Arial"/>
              </a:rPr>
              <a:t>Building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5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45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95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45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95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45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95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45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95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45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95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45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95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45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95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45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95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45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28800" y="1295280"/>
            <a:ext cx="533412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To Have $50,000 at 8% Interes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0" y="64612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1295280"/>
            <a:ext cx="533412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733920" y="1295280"/>
            <a:ext cx="1752480" cy="3886200"/>
            <a:chOff x="3733920" y="1295280"/>
            <a:chExt cx="1752480" cy="3886200"/>
          </a:xfrm>
        </p:grpSpPr>
        <p:sp>
          <p:nvSpPr>
            <p:cNvPr id="136" name=""/>
            <p:cNvSpPr/>
            <p:nvPr/>
          </p:nvSpPr>
          <p:spPr>
            <a:xfrm>
              <a:off x="3733920" y="129528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86400" y="129528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828800" y="2286000"/>
            <a:ext cx="5334120" cy="1905120"/>
            <a:chOff x="1828800" y="2286000"/>
            <a:chExt cx="5334120" cy="1905120"/>
          </a:xfrm>
        </p:grpSpPr>
        <p:sp>
          <p:nvSpPr>
            <p:cNvPr id="139" name=""/>
            <p:cNvSpPr/>
            <p:nvPr/>
          </p:nvSpPr>
          <p:spPr>
            <a:xfrm>
              <a:off x="1828800" y="228600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28800" y="32767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8800" y="41911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516400" y="251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6400" y="350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640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64440" y="1447920"/>
            <a:ext cx="17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umber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Years S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05720" y="1447920"/>
            <a:ext cx="11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ont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5720" y="1447920"/>
            <a:ext cx="12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mount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89080" y="44197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$1,928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7520" y="44197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$63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7520" y="35053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$29.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7520" y="25146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$17.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5760" y="35053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$887.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65760" y="25146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$543.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25200" y="5410080"/>
            <a:ext cx="36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* Assumes a 365-day year for daily am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6553080"/>
            <a:ext cx="38124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5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Investing a $10,000 Lump Su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80" y="64612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295280"/>
            <a:ext cx="7772400" cy="441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12952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12952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12952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12952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74240" y="480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74240" y="4343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4440" y="38862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44440" y="34290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4440" y="29718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4440" y="25146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20574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74240" y="52578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371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4784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5040" y="2057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2,7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504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7,6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5040" y="4800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6,8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46480" y="4343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6,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4648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5,3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648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4,6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45040" y="2971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4,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4648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3,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45240" y="2057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6,2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4812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1,0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48120" y="4800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8,3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49920" y="4343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5,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4992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3,6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4992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1,5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46680" y="2971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9,6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4812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7,9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48320" y="2057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0,7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4832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4,7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8320" y="4800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47,8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0120" y="4343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41,7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5012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6,4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012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1,7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48320" y="2971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7,5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5012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3,9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72560" y="2057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6,5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7256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96,4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72560" y="4800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80,6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74000" y="4343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67,2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7400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6,0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7400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46,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72560" y="2971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8,6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7400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2.0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500"/>
                            </p:stCondLst>
                            <p:childTnLst>
                              <p:par>
                                <p:cTn id="4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7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8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85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9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95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45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Investing $1,000 Annuall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0" y="64612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1295280"/>
            <a:ext cx="7772400" cy="44197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1295280"/>
            <a:ext cx="0" cy="4419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1295280"/>
            <a:ext cx="0" cy="4419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1295280"/>
            <a:ext cx="0" cy="4419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1295280"/>
            <a:ext cx="0" cy="4419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74240" y="480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74240" y="4343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44440" y="38862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4440" y="34290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4440" y="29718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44440" y="25146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20574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74240" y="52578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371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1028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14880" y="20574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,5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18120" y="5257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6,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8120" y="48006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6,2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19560" y="43434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6,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9560" y="38862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,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19560" y="34290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,8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18120" y="2971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,7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19560" y="25146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,6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46680" y="2057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2,5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136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7,5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1360" y="4800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6,7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49920" y="4343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5,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316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5,1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316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4,4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49920" y="2971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3,8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5136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3,1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50120" y="2057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1,5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5156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7,2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51560" y="4800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4,4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53360" y="4343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1,7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5336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9,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5156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7,1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50120" y="2971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5,1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5156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3,2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72560" y="2057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3,0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7544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72,0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75440" y="4800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64,2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77240" y="4343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7,2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7724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1,1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7724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45,7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78680" y="2971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40,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7724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6,7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500"/>
                            </p:stCondLst>
                            <p:childTnLst>
                              <p:par>
                                <p:cTn id="7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6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70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75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8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5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65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70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7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8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85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90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9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57200" y="2133720"/>
            <a:ext cx="83818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0" y="64612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Answers to Exercise 3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3657600"/>
            <a:ext cx="19810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2743200"/>
            <a:ext cx="19810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27432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10.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38480" y="27432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10.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133720"/>
            <a:ext cx="198108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Interest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2133720"/>
            <a:ext cx="16002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1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2133720"/>
            <a:ext cx="16002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2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2133720"/>
            <a:ext cx="16002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4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2133720"/>
            <a:ext cx="16002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6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3657600"/>
            <a:ext cx="83818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038480" y="2133360"/>
            <a:ext cx="0" cy="2438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38680" y="2133360"/>
            <a:ext cx="0" cy="2438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0" y="3824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238880" y="2133360"/>
            <a:ext cx="0" cy="2438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49400" y="3824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73280" y="3824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773480" y="3809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73480" y="2909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73280" y="2909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38280" y="36576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10.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238880" y="36576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15.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36576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13.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36576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11.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38880" y="27432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12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27432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11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7692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95680" y="6553080"/>
            <a:ext cx="38124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3392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6553080"/>
            <a:ext cx="38124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133720"/>
            <a:ext cx="8381880" cy="24382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ule of 7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0" y="64612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562040" y="1905120"/>
            <a:ext cx="6019920" cy="1447560"/>
            <a:chOff x="1562040" y="1905120"/>
            <a:chExt cx="6019920" cy="1447560"/>
          </a:xfrm>
        </p:grpSpPr>
        <p:sp>
          <p:nvSpPr>
            <p:cNvPr id="318" name=""/>
            <p:cNvSpPr/>
            <p:nvPr/>
          </p:nvSpPr>
          <p:spPr>
            <a:xfrm>
              <a:off x="1562040" y="1905120"/>
              <a:ext cx="6019920" cy="144756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5680" y="198108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38680" y="2743200"/>
              <a:ext cx="163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terest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33960" y="22860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89600" y="220968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ears Needed 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ouble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14680" y="2590920"/>
              <a:ext cx="213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562040" y="3962520"/>
            <a:ext cx="6019920" cy="1447560"/>
            <a:chOff x="1562040" y="3962520"/>
            <a:chExt cx="6019920" cy="1447560"/>
          </a:xfrm>
        </p:grpSpPr>
        <p:sp>
          <p:nvSpPr>
            <p:cNvPr id="325" name=""/>
            <p:cNvSpPr/>
            <p:nvPr/>
          </p:nvSpPr>
          <p:spPr>
            <a:xfrm>
              <a:off x="1562040" y="3962520"/>
              <a:ext cx="6019920" cy="144756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15680" y="396252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94880" y="4267080"/>
              <a:ext cx="163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terest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quir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33960" y="42228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12880" y="464832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ears Needed 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ouble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90640" y="4572000"/>
              <a:ext cx="2133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3:37:16Z</dcterms:created>
  <dc:creator> </dc:creator>
  <dc:description/>
  <dc:language>en-US</dc:language>
  <cp:lastModifiedBy>John Parfrey</cp:lastModifiedBy>
  <dcterms:modified xsi:type="dcterms:W3CDTF">2007-07-01T16:30:15Z</dcterms:modified>
  <cp:revision>51</cp:revision>
  <dc:subject/>
  <dc:title>Slide 1</dc:title>
</cp:coreProperties>
</file>